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030-2BC7-4DE0-AE8D-4C4FC273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F8C-E1CF-4204-B927-E1A93257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A0D-05BA-4B4F-8A30-1E1806BA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FDD-0ACB-45E7-9343-B1CCC4BE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CFF-A284-4A3C-AEA8-389477F8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83B-1165-4612-BEEA-A82B4FBD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ED3-9DEB-4191-B89A-F4C6BE1D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1D9-8A70-402A-9737-4FAC0288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912-5EC2-4EC0-BD5E-E3B3D9F3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805-B4F6-43EC-B862-A32D8340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55F-A37F-404A-BB5F-40415808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D1B-31E8-44FE-879F-9AC0EAF0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F491-56A6-4879-8F7D-C97690462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chos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300" spc="-1" strike="noStrike">
                <a:solidFill>
                  <a:srgbClr val="000000"/>
                </a:solidFill>
                <a:latin typeface="Arial"/>
              </a:rPr>
              <a:t>bash</a:t>
            </a:r>
            <a:endParaRPr b="0" lang="en-US" sz="2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hatch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sash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900" spc="-1" strike="noStrike">
                <a:solidFill>
                  <a:srgbClr val="000000"/>
                </a:solidFill>
                <a:latin typeface="Arial"/>
              </a:rPr>
              <a:t>slip</a:t>
            </a:r>
            <a:endParaRPr b="0" lang="en-US" sz="3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such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chas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those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whether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shrimp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3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400" spc="-1" strike="noStrike">
                <a:solidFill>
                  <a:srgbClr val="000000"/>
                </a:solidFill>
                <a:latin typeface="Arial"/>
              </a:rPr>
              <a:t>pieces</a:t>
            </a:r>
            <a:endParaRPr b="0" lang="en-US" sz="2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hitch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7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1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though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600" spc="-1" strike="noStrike">
                <a:solidFill>
                  <a:srgbClr val="000000"/>
                </a:solidFill>
                <a:latin typeface="Arial"/>
              </a:rPr>
              <a:t>somewhere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3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traigh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9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3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mush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2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3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 </cp:lastModifiedBy>
  <dcterms:modified xsi:type="dcterms:W3CDTF">2007-05-06T15:34:52Z</dcterms:modified>
  <cp:revision>22</cp:revision>
  <dc:subject/>
  <dc:title>king</dc:title>
</cp:coreProperties>
</file>